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5E6-7887-4A95-A2BC-076D6D51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5AA-0376-4FCC-93DB-3B5D38BC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4BB-A144-494D-9B74-91BF2118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7EF-1274-4552-9DB8-B0976F4A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3A4-2983-4872-9871-4165B46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C70-5673-4CBE-9514-B0C8DB9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F44-8A39-4A5C-B260-3FAC8B3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8B3-2F98-4F4A-A5DE-041D160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18A-81F9-417F-A1C7-4C25AB0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45-AE3A-4B03-A11F-8B6FC67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E81-ABC1-4AC7-8F54-ED8D2FC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1E1-28DB-4F0A-9568-B56F5CE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5AA7-A12E-4A06-A58E-42318B81E2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Garamond"/>
              </a:rPr>
              <a:t>La propagazione del cal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915920"/>
            <a:ext cx="4929120" cy="30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l calore tende spontaneamente a propagarsi sia all’interno di un corpo solido sia all’interno di un fl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 meccanismi di propagazione sono però diversi; conduzione, convenzione e irragg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it-IT" sz="4800" spc="-1" strike="noStrike">
                <a:solidFill>
                  <a:srgbClr val="ff0000"/>
                </a:solidFill>
                <a:latin typeface="Garamond"/>
              </a:rPr>
              <a:t>Convezione</a:t>
            </a: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ttangolo 4"/>
          <p:cNvSpPr/>
          <p:nvPr/>
        </p:nvSpPr>
        <p:spPr>
          <a:xfrm>
            <a:off x="324000" y="3573360"/>
            <a:ext cx="8351640" cy="2724840"/>
          </a:xfrm>
          <a:prstGeom prst="rect">
            <a:avLst/>
          </a:prstGeom>
          <a:solidFill>
            <a:srgbClr val="00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l fenomeno che si vede è, infatti, dovuto al fatto che il liquido presente nella parte bassa del recipiente riscaldato si dilata e diminuisce di densit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Per il principio di Archimede è, quindi,  spinto verso l’alto mentre il liquido più in alto, più freddo, scende verso il basso compensando lo spostamento del liquido che ris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All’interno del recipiente si creano delle vere e proprie correnti chiamate </a:t>
            </a:r>
            <a:r>
              <a:rPr b="1" i="1" lang="it-IT" sz="2400" spc="-1" strike="noStrike">
                <a:solidFill>
                  <a:srgbClr val="000000"/>
                </a:solidFill>
                <a:latin typeface="Garamond"/>
              </a:rPr>
              <a:t>convettive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ttangolo 5"/>
          <p:cNvSpPr/>
          <p:nvPr/>
        </p:nvSpPr>
        <p:spPr>
          <a:xfrm>
            <a:off x="826920" y="1700280"/>
            <a:ext cx="7417080" cy="155700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Riempiendo un recipiente di vetro e versando al suo interno delle gocce di colorante, riscaldando il liquido si potranno  osservare le sue particelle muoversi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4400" spc="-1" strike="noStrike">
                <a:solidFill>
                  <a:srgbClr val="ffc000"/>
                </a:solidFill>
                <a:latin typeface="Garamond"/>
              </a:rPr>
              <a:t>Irraggiamento</a:t>
            </a:r>
            <a:br>
              <a:rPr sz="4400"/>
            </a:br>
            <a:br>
              <a:rPr sz="44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a propagazione del calore avviene in assenza di materia, come il sole propaga il calore sulla terra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“Irraggiare” significa “emettere radiazioni”. Esse sono onde che si propagano nello spazio alla velocità della luce.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Poiché queste radiazioni trasportano energia, quando investono un corpo e vengono assorbite, provocano un aumento di energia cinetica delle molecole e della temperatura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a quantità di energia che un corpo assorbe per irraggiamento dipende molto dallo stato della su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Garamond"/>
              </a:rPr>
              <a:t>Con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onduzione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onduttività termica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(indicata con </a:t>
            </a:r>
            <a:r>
              <a:rPr b="0" i="1" lang="it-IT" sz="3200" spc="-1" strike="noStrike">
                <a:solidFill>
                  <a:srgbClr val="ffffff"/>
                </a:solidFill>
                <a:latin typeface="Garamond"/>
              </a:rPr>
              <a:t>λ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it-IT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) è il rapporto, fra il flusso di calore e il gradiente di temperatura che provoca il passaggio del ca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È la capacità di una sostanza di trasmettere il calore e dipende solo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alla natura del materiale.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L'equazione generale della conduzione termica è espressa dalla </a:t>
            </a:r>
            <a:r>
              <a:rPr b="1" lang="it-IT" sz="3200" spc="-1" strike="noStrike">
                <a:solidFill>
                  <a:srgbClr val="000000"/>
                </a:solidFill>
                <a:latin typeface="Garamond"/>
              </a:rPr>
              <a:t>legge di Fourier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Q= calor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K= coefficiente di conducibilità termic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T2-T1= variazione di temperatur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delta t = variazione di temp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S= superfici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= lungh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57336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Q = K \frac{(T_2 - T_1) \cdot S \cdot \Delta t}{L}"/>
          <p:cNvPicPr/>
          <p:nvPr/>
        </p:nvPicPr>
        <p:blipFill>
          <a:blip r:embed="rId1"/>
          <a:stretch/>
        </p:blipFill>
        <p:spPr>
          <a:xfrm>
            <a:off x="1692360" y="2205000"/>
            <a:ext cx="4680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e sostanze che conducono bene il calore sono chiamate conduttori termici come ad esempio i meta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e sostanze che conducono male il calore invece sono chiamate isolanti termici, per esempio il legno e l’ acq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I buoni conduttori termici hanno coefficiente di conducibilità grande, mentre gli isolanti più picc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Per l’aria il coefficiente di conducibilità è trascurabile pari a: 0,025W/(m * K) a °C mentre l’acqua è: 0,6W/(m *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Esper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1052280"/>
            <a:ext cx="828036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ter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ue pallonc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a fonte di calore ( candel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c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Gonfiamo 2 palloncini, uno con dell’ aria, il secondo lo riempiremo d’ acqua. Li poniamo entrambi sopra la fiamma della candela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Noteremo che il palloncino vuoto scoppierà dopo pochi istanti mentre quello con al suo interno l’ acqua non subirà nessun cambiamento. 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 Perché?</a:t>
            </a:r>
            <a:br>
              <a:rPr sz="28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Come affermato precedentemente, l’ acqua ha una conducibilità termica maggiore di quella dell’aria, e quindi il palloncino non fa in tempo a sciogliersi ed a scoppiare perché l’ acqua assorbe subito il calore fornito dalla fiamma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</dc:creator>
  <dc:description/>
  <dc:language>en-US</dc:language>
  <cp:lastModifiedBy>Laura Polenta</cp:lastModifiedBy>
  <dcterms:modified xsi:type="dcterms:W3CDTF">2011-05-13T19:17:16Z</dcterms:modified>
  <cp:revision>31</cp:revision>
  <dc:subject/>
  <dc:title>PowerPoint Presentation</dc:title>
</cp:coreProperties>
</file>